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8FE7-6BAB-439F-BB12-D36059784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F3AC-7D68-4455-BE3C-1FB31099A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6F95-941C-466F-9400-A880A7B3D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BAB-4162-44F3-804E-7BBAD15C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BE9-4F72-4779-8FFB-004118AB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D7A-3AEC-45B2-9F49-5ED76A09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0689-FC56-4C5F-81BC-8AE5B3AD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4175-78F8-4409-98B9-A2FCE26D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478F-B45F-45FF-BEC0-1C3D4120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AF5-015D-43D5-9B12-B6E0CF00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8E8-A4A9-46CB-AE0D-27F56B5F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3B6-B89E-47A9-84FA-85C782FD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A3A5-834E-4193-B481-87C88459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0B6-EEF5-4C5F-9C3E-156BA38A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2E0-85D8-49F4-AD95-73FD3518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5805-938D-4E8F-AB66-30AA978A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EF0C-F0FE-41DF-98C9-5DC7D3F7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7368-CAC7-4B3C-AC6D-47AAB63F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F921-2A5B-40B8-8E9D-F1C33E55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3346-5A69-459C-ADCD-DEB60ACF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7872-E386-4FFB-8BE4-81853AC9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3321-067E-4F4F-B068-3B2DFCE7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8FA4-265E-4F73-A31E-8A234759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233E-7130-4EF1-90DD-F8BABA77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CC9A-A277-499F-860F-6628EDF0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01D2-EF1D-42FA-9BC3-37E34A49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C52C-96AD-4B72-A0B1-0D65A4D5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8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2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3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9061-14BE-487B-9C62-95C1276ABD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5291-4A02-47ED-9F74-0ECA090CAF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6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837720" y="15238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94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verview: Year 2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Moving forw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1"/>
          <p:cNvSpPr/>
          <p:nvPr/>
        </p:nvSpPr>
        <p:spPr>
          <a:xfrm>
            <a:off x="380880" y="213372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NAFAKA stat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ts implications on the project next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Expanding  x 5 tim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What are the implications for realizing the result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team/subteam should articulate its strategy for next year or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alibri"/>
              </a:rPr>
              <a:t>Clarification to beneficia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out the project focus (clear mess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</a:t>
            </a: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integr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other components of the value chain (markets, inputs, processing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513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514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stry of Agriculture, Livestock and Fisheries (MAL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I Hombolo, ARI Chollima/Dakawa; ARI Selian; KATRIN; HORTI-Tenge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FAKA partners (IFDC, RUDI, FIPS, MVIWATA), private sector actors (marketing, process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ICOs: Kilosa, Mvomero, Babati, Iringa rural, Kilolo, Mbarali, Mbozi, Kongwa, Kiteto and Kilombero distri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ata Seeds, Meru Agro, Other input suppl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24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Backgroun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C:\Users\user\AppData\Local\Microsoft\Windows\INetCache\Content.Outlook\76WYE4AT\AR_NAFAKA_Action_Districts_12042016.jpg"/>
          <p:cNvPicPr/>
          <p:nvPr/>
        </p:nvPicPr>
        <p:blipFill>
          <a:blip r:embed="rId1"/>
          <a:stretch/>
        </p:blipFill>
        <p:spPr>
          <a:xfrm>
            <a:off x="685800" y="1219320"/>
            <a:ext cx="75438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Key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1"/>
          <p:cNvSpPr/>
          <p:nvPr/>
        </p:nvSpPr>
        <p:spPr>
          <a:xfrm>
            <a:off x="380880" y="26668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eam eff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Good; generally on track to realize targ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Reorganization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ice team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Management and coordination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ity leadership, advice,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83808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Key action areas for better scal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Oval 3"/>
          <p:cNvSpPr/>
          <p:nvPr/>
        </p:nvSpPr>
        <p:spPr>
          <a:xfrm>
            <a:off x="824040" y="3314880"/>
            <a:ext cx="2514600" cy="190476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Oval 4"/>
          <p:cNvSpPr/>
          <p:nvPr/>
        </p:nvSpPr>
        <p:spPr>
          <a:xfrm>
            <a:off x="2057400" y="3352680"/>
            <a:ext cx="2514600" cy="190512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TextBox 31" descr=""/>
          <p:cNvPicPr/>
          <p:nvPr/>
        </p:nvPicPr>
        <p:blipFill>
          <a:blip r:embed="rId1"/>
          <a:stretch/>
        </p:blipFill>
        <p:spPr>
          <a:xfrm>
            <a:off x="987480" y="4041720"/>
            <a:ext cx="1066680" cy="920880"/>
          </a:xfrm>
          <a:prstGeom prst="rect">
            <a:avLst/>
          </a:prstGeom>
          <a:ln w="0">
            <a:noFill/>
          </a:ln>
        </p:spPr>
      </p:pic>
      <p:pic>
        <p:nvPicPr>
          <p:cNvPr id="493" name="TextBox 32" descr=""/>
          <p:cNvPicPr/>
          <p:nvPr/>
        </p:nvPicPr>
        <p:blipFill>
          <a:blip r:embed="rId2"/>
          <a:stretch/>
        </p:blipFill>
        <p:spPr>
          <a:xfrm>
            <a:off x="3273480" y="3889440"/>
            <a:ext cx="1450800" cy="646200"/>
          </a:xfrm>
          <a:prstGeom prst="rect">
            <a:avLst/>
          </a:prstGeom>
          <a:ln w="0">
            <a:noFill/>
          </a:ln>
        </p:spPr>
      </p:pic>
      <p:sp>
        <p:nvSpPr>
          <p:cNvPr id="494" name="Rounded Rectangle 33"/>
          <p:cNvSpPr/>
          <p:nvPr/>
        </p:nvSpPr>
        <p:spPr>
          <a:xfrm>
            <a:off x="1828800" y="205740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nvestor (USA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ounded Rectangle 34"/>
          <p:cNvSpPr/>
          <p:nvPr/>
        </p:nvSpPr>
        <p:spPr>
          <a:xfrm>
            <a:off x="1600200" y="5791320"/>
            <a:ext cx="2438280" cy="9903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(Smallhol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6" name="Straight Arrow Connector 37"/>
          <p:cNvCxnSpPr/>
          <p:nvPr/>
        </p:nvCxnSpPr>
        <p:spPr>
          <a:xfrm>
            <a:off x="3428640" y="297180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7" name="Straight Arrow Connector 38"/>
          <p:cNvCxnSpPr/>
          <p:nvPr/>
        </p:nvCxnSpPr>
        <p:spPr>
          <a:xfrm>
            <a:off x="2209320" y="297180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8" name="TextBox 39"/>
          <p:cNvSpPr/>
          <p:nvPr/>
        </p:nvSpPr>
        <p:spPr>
          <a:xfrm>
            <a:off x="2133720" y="3962520"/>
            <a:ext cx="1052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Common man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Up-Down Arrow 40"/>
          <p:cNvSpPr/>
          <p:nvPr/>
        </p:nvSpPr>
        <p:spPr>
          <a:xfrm>
            <a:off x="2666880" y="5257800"/>
            <a:ext cx="228600" cy="533520"/>
          </a:xfrm>
          <a:prstGeom prst="upDownArrow">
            <a:avLst>
              <a:gd name="adj1" fmla="val 50000"/>
              <a:gd name="adj2" fmla="val 50015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42"/>
          <p:cNvSpPr/>
          <p:nvPr/>
        </p:nvSpPr>
        <p:spPr>
          <a:xfrm>
            <a:off x="4815000" y="1808280"/>
            <a:ext cx="425268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G centers should operate with national research institutions in all 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NAFAKA as a consortium has many development actors that matter. We should involve them; identify others – NGOs, private s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Leverage resources (N2Afr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alibri"/>
                <a:ea typeface="MS PGothic"/>
              </a:rPr>
              <a:t>Deepen work with DAICOs especially VAEOS/WAE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tter communication and coordination (with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subordina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  <a:ea typeface="MS PGothic"/>
              </a:rPr>
              <a:t>team lead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41"/>
          <p:cNvSpPr/>
          <p:nvPr/>
        </p:nvSpPr>
        <p:spPr>
          <a:xfrm>
            <a:off x="1219320" y="1224000"/>
            <a:ext cx="89913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7f09"/>
                </a:solidFill>
                <a:latin typeface="Calibri"/>
                <a:ea typeface="MS PGothic"/>
              </a:rPr>
              <a:t>1. Partnership – ‘winning’ arrang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2. Documentat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If it is not recorded, it did not happen!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2. Docu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609480" y="21337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ff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Interna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ributes of technologies including ‘cost-benefi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materials (manuals, flyers, fact shee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posts for the de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368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2. Documentat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417680"/>
            <a:ext cx="33526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i. Capacity bui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eld Liaison staff training (May 20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AID M&amp;E partners’ meetings (quarter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"/>
          <p:cNvSpPr/>
          <p:nvPr/>
        </p:nvSpPr>
        <p:spPr>
          <a:xfrm>
            <a:off x="609480" y="3909960"/>
            <a:ext cx="312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ii. Progress and update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itoring data (DCF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Success st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6-07-04T05:36:17Z</dcterms:modified>
  <cp:revision>30</cp:revision>
  <dc:subject/>
  <dc:title>PowerPoint Presentation</dc:title>
</cp:coreProperties>
</file>